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5A67-A996-4228-BBDE-86B0D1CDF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3675-6BC9-4A5D-AA68-8A7DEE457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0013-241F-4C7F-A175-A6A2BAD0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301A-2A8B-411A-8AE5-41A916F8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11DD-512B-4FFD-9538-FACAC76F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90AB-5001-40A8-9C27-B79AE2EA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B27E-56DA-4B2D-A9E7-7D4960B0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381F-2CB3-4C68-8B2D-DB0CBB93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AA63-3431-4A2F-8285-EDD1BBF3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3861-1EF4-4E5E-87F6-9F8DCEFC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E85B-A665-484C-A8A8-37E23554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D4FF-B76D-459D-9528-01E20A5D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9456-36EC-4D6F-9D40-961BA674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BD8-D1D8-46F2-9760-9A5BFAE3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415F-82B9-4371-87A6-DCEDC65E6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4.jpe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04920"/>
            <a:ext cx="9144000" cy="9903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eram Awada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eram Awada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80880" y="2438280"/>
            <a:ext cx="12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eram (24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380880" y="2666880"/>
            <a:ext cx="12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er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457200" y="289548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eram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905120" y="1447920"/>
            <a:ext cx="601956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82880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52388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82880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62000" y="53722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181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sba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617920" y="3429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60840" y="3505320"/>
            <a:ext cx="297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7"/>
          <p:cNvSpPr/>
          <p:nvPr/>
        </p:nvSpPr>
        <p:spPr>
          <a:xfrm>
            <a:off x="76320" y="3618000"/>
            <a:ext cx="1676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Meram. Yo vivo en New York City. Tengo 14 años. Tengo uno hermano. Soy es joven, graciosa y activ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2"/>
          <p:cNvSpPr/>
          <p:nvPr/>
        </p:nvSpPr>
        <p:spPr>
          <a:xfrm>
            <a:off x="64764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4"/>
          <p:cNvSpPr/>
          <p:nvPr/>
        </p:nvSpPr>
        <p:spPr>
          <a:xfrm>
            <a:off x="236520" y="60991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6"/>
          <p:cNvSpPr/>
          <p:nvPr/>
        </p:nvSpPr>
        <p:spPr>
          <a:xfrm flipH="1">
            <a:off x="1249200" y="51307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b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2743200" y="4876920"/>
            <a:ext cx="38862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Lib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Hola! </a:t>
            </a: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¿L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o que está arrib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70200" y="3124080"/>
            <a:ext cx="3876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Manisha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343434"/>
                </a:solidFill>
                <a:latin typeface="Arial"/>
              </a:rPr>
              <a:t>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Buenas tardes. ¿Quieres hacer algo este fin de semana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70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Misb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amiga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7880" y="54864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Stev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mi amora!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Hablar conmigo por la maña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6"/>
          <p:cNvSpPr/>
          <p:nvPr/>
        </p:nvSpPr>
        <p:spPr>
          <a:xfrm>
            <a:off x="1981080" y="1828800"/>
            <a:ext cx="198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o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2"/>
          <p:cNvSpPr/>
          <p:nvPr/>
        </p:nvSpPr>
        <p:spPr>
          <a:xfrm>
            <a:off x="703440" y="6095880"/>
            <a:ext cx="49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photo-1.jpeg"/>
          <p:cNvPicPr/>
          <p:nvPr/>
        </p:nvPicPr>
        <p:blipFill>
          <a:blip r:embed="rId1"/>
          <a:stretch/>
        </p:blipFill>
        <p:spPr>
          <a:xfrm>
            <a:off x="712800" y="4660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photo.jpeg"/>
          <p:cNvPicPr/>
          <p:nvPr/>
        </p:nvPicPr>
        <p:blipFill>
          <a:blip r:embed="rId2"/>
          <a:stretch/>
        </p:blipFill>
        <p:spPr>
          <a:xfrm>
            <a:off x="203040" y="4657680"/>
            <a:ext cx="422280" cy="460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8" descr=""/>
          <p:cNvPicPr/>
          <p:nvPr/>
        </p:nvPicPr>
        <p:blipFill>
          <a:blip r:embed="rId3"/>
          <a:stretch/>
        </p:blipFill>
        <p:spPr>
          <a:xfrm>
            <a:off x="2133720" y="2514600"/>
            <a:ext cx="512640" cy="528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0" descr="C:\Users\Unicorns are Cool\Downloads\behappy_dontworry on Instagram_files\profile_33995694_75sq_1352944363.jpg"/>
          <p:cNvPicPr/>
          <p:nvPr/>
        </p:nvPicPr>
        <p:blipFill>
          <a:blip r:embed="rId4"/>
          <a:stretch/>
        </p:blipFill>
        <p:spPr>
          <a:xfrm>
            <a:off x="380880" y="1371600"/>
            <a:ext cx="1067040" cy="1055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1" descr=""/>
          <p:cNvPicPr/>
          <p:nvPr/>
        </p:nvPicPr>
        <p:blipFill>
          <a:blip r:embed="rId5"/>
          <a:stretch/>
        </p:blipFill>
        <p:spPr>
          <a:xfrm>
            <a:off x="2151000" y="3124080"/>
            <a:ext cx="486000" cy="4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3" descr="C:\Users\Unicorns are Cool\Downloads\apessssss_ on Instagram_files\c2ca73f2359311e29b2522000a9f13d5_7.jpg"/>
          <p:cNvPicPr/>
          <p:nvPr/>
        </p:nvPicPr>
        <p:blipFill>
          <a:blip r:embed="rId6"/>
          <a:stretch/>
        </p:blipFill>
        <p:spPr>
          <a:xfrm>
            <a:off x="203040" y="5486400"/>
            <a:ext cx="476280" cy="588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4" descr="C:\Users\Unicorns are Cool\Downloads\_mermaidinspired on Instagram_files\profile_17452405_75sq_1354473962.jpg"/>
          <p:cNvPicPr/>
          <p:nvPr/>
        </p:nvPicPr>
        <p:blipFill>
          <a:blip r:embed="rId7"/>
          <a:stretch/>
        </p:blipFill>
        <p:spPr>
          <a:xfrm>
            <a:off x="1249200" y="4657680"/>
            <a:ext cx="462240" cy="44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5" descr=""/>
          <p:cNvPicPr/>
          <p:nvPr/>
        </p:nvPicPr>
        <p:blipFill>
          <a:blip r:embed="rId8"/>
          <a:stretch/>
        </p:blipFill>
        <p:spPr>
          <a:xfrm>
            <a:off x="2133720" y="4876920"/>
            <a:ext cx="463320" cy="45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8" descr="C:\Users\Unicorns are Cool\Downloads\xobanaaxo on Instagram_files\640e37a8286511e2a76e22000a9f1968_7.jpg"/>
          <p:cNvPicPr/>
          <p:nvPr/>
        </p:nvPicPr>
        <p:blipFill>
          <a:blip r:embed="rId9"/>
          <a:stretch/>
        </p:blipFill>
        <p:spPr>
          <a:xfrm>
            <a:off x="762120" y="5486400"/>
            <a:ext cx="371520" cy="593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532541_4387223202872_804143334_n.jpeg"/>
          <p:cNvPicPr/>
          <p:nvPr/>
        </p:nvPicPr>
        <p:blipFill>
          <a:blip r:embed="rId10"/>
          <a:stretch/>
        </p:blipFill>
        <p:spPr>
          <a:xfrm>
            <a:off x="1219320" y="5486400"/>
            <a:ext cx="457200" cy="6238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1221840" y="6095880"/>
            <a:ext cx="49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8" descr="532541_4387223202872_804143334_n.jpeg"/>
          <p:cNvPicPr/>
          <p:nvPr/>
        </p:nvPicPr>
        <p:blipFill>
          <a:blip r:embed="rId11"/>
          <a:stretch/>
        </p:blipFill>
        <p:spPr>
          <a:xfrm>
            <a:off x="2133720" y="541008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7"/>
          <p:cNvSpPr/>
          <p:nvPr/>
        </p:nvSpPr>
        <p:spPr>
          <a:xfrm>
            <a:off x="3075120" y="3733920"/>
            <a:ext cx="358128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i! Debemos debería ir a patinar sobre hielo. Me voy con Albana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u debería venir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21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0" descr="C:\Users\Unicorns are Cool\Downloads\behappy_dontworry on Instagram_files\profile_33995694_75sq_1352944363.jpg"/>
          <p:cNvPicPr/>
          <p:nvPr/>
        </p:nvPicPr>
        <p:blipFill>
          <a:blip r:embed="rId12"/>
          <a:stretch/>
        </p:blipFill>
        <p:spPr>
          <a:xfrm>
            <a:off x="2617920" y="3733920"/>
            <a:ext cx="380880" cy="4572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7"/>
          <p:cNvSpPr/>
          <p:nvPr/>
        </p:nvSpPr>
        <p:spPr>
          <a:xfrm>
            <a:off x="3048120" y="4343400"/>
            <a:ext cx="3571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y a voy a pedir a mis padres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14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1" descr=""/>
          <p:cNvPicPr/>
          <p:nvPr/>
        </p:nvPicPr>
        <p:blipFill>
          <a:blip r:embed="rId13"/>
          <a:stretch/>
        </p:blipFill>
        <p:spPr>
          <a:xfrm>
            <a:off x="2590920" y="434340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1900080" y="844560"/>
            <a:ext cx="38912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Apr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engo que decirte algo a decir a te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4 minutes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7"/>
          <p:cNvSpPr/>
          <p:nvPr/>
        </p:nvSpPr>
        <p:spPr>
          <a:xfrm>
            <a:off x="1905120" y="1981080"/>
            <a:ext cx="39020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Albana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días! ¿Quieres ir a patinar sobre hielo ho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7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480960" cy="513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9" descr=""/>
          <p:cNvPicPr/>
          <p:nvPr/>
        </p:nvPicPr>
        <p:blipFill>
          <a:blip r:embed="rId2"/>
          <a:stretch/>
        </p:blipFill>
        <p:spPr>
          <a:xfrm>
            <a:off x="1371600" y="1905120"/>
            <a:ext cx="380880" cy="591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eram Awada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7"/>
          <p:cNvSpPr/>
          <p:nvPr/>
        </p:nvSpPr>
        <p:spPr>
          <a:xfrm>
            <a:off x="2133720" y="1447920"/>
            <a:ext cx="3571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ene! Nosotros podemos reunirnos en estos momento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8 minutes ago   Octubre 22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0" descr="C:\Users\Unicorns are Cool\Downloads\behappy_dontworry on Instagram_files\profile_33995694_75sq_1352944363.jpg"/>
          <p:cNvPicPr/>
          <p:nvPr/>
        </p:nvPicPr>
        <p:blipFill>
          <a:blip r:embed="rId3"/>
          <a:stretch/>
        </p:blipFill>
        <p:spPr>
          <a:xfrm>
            <a:off x="1676520" y="1447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7"/>
          <p:cNvSpPr/>
          <p:nvPr/>
        </p:nvSpPr>
        <p:spPr>
          <a:xfrm>
            <a:off x="1905120" y="27432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Lib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¿Dónde estás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? Necesito hablar con usted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2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5" descr=""/>
          <p:cNvPicPr/>
          <p:nvPr/>
        </p:nvPicPr>
        <p:blipFill>
          <a:blip r:embed="rId4"/>
          <a:stretch/>
        </p:blipFill>
        <p:spPr>
          <a:xfrm>
            <a:off x="1295280" y="2744640"/>
            <a:ext cx="54000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5:00:01Z</dcterms:modified>
  <cp:revision>117</cp:revision>
  <dc:subject/>
  <dc:title>Profile</dc:title>
</cp:coreProperties>
</file>